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2D7-9313-4503-B30D-D4BD84D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76A-AC65-47AC-8CFF-98C9A6F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FC0-2F16-4B8F-A787-9422E22A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CEE-93C4-440C-A291-7FCF7C2E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A03-D444-4862-8656-AF06CE3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C09-C4A5-4CE2-B4FC-4F522E1E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63A-F35D-441C-B03D-5C08A4B0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C03-E2AE-431F-A7A3-5C0ECBE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84E-51E6-4A23-9474-FEB1192A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72F-FFC9-4583-9FBD-2E71BFE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64D-28DD-4567-93B4-895BA3D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C9D-0C15-4930-B40D-F6C8A2C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801C-4508-4209-852C-AD262796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ezi.com/kinyzw1dhvl8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25440"/>
            <a:ext cx="754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mber 12,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s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2000">
            <a:off x="4266720" y="1143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63600">
            <a:off x="761760" y="2438280"/>
            <a:ext cx="1743120" cy="225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3276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848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96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61722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5257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readpages1-10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99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42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8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629400" cy="621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54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41:43Z</dcterms:created>
  <dc:creator>Checkout</dc:creator>
  <dc:description/>
  <dc:language>en-US</dc:language>
  <cp:lastModifiedBy>MignardiD</cp:lastModifiedBy>
  <dcterms:modified xsi:type="dcterms:W3CDTF">2010-04-25T19:21:21Z</dcterms:modified>
  <cp:revision>8</cp:revision>
  <dc:subject/>
  <dc:title>Slide 1</dc:title>
</cp:coreProperties>
</file>